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4C5-5A85-4AB4-89AB-5ADD56A3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340-5696-4A39-B309-27F9185C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3BD5-79E9-4058-937E-64293A43B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7DB-B20C-4EA6-AE65-FC96458D1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48EB-0BB3-498B-86C3-3C98FD24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325B-E178-4A4F-BE36-5E2F5036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BEF1-CA66-4A5F-A843-40FEDE00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6A7-3173-4B09-837A-B114338A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E219-0E11-4F3F-897A-BDDB7FA2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C83E-9775-4D5A-8AAB-DAE25FC3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A54-D572-48EB-98EC-5F4289CC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775-98C9-46EE-99F8-CE5083E9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3950-E551-446B-9B3F-C8C2BDD46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ily Activities and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we doing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z on Chapter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Chapter 15 as a class (Flow Cha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: Read the Rest of Chapter 15 (QUIZ WE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results of political, economic and social oppression and the violation of human r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mp the Teacher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udent will write down 5 questions as you are read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swer to the question must be found in the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air question is about content...a question you might expect to find on a quiz (In other words, not “What is the first word in the second paragraph of the third page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tump the entire class gets one bonus point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3:04:41Z</dcterms:created>
  <dc:creator>Michael Farrell</dc:creator>
  <dc:description/>
  <dc:language>en-US</dc:language>
  <cp:lastModifiedBy>Michael Farrell</cp:lastModifiedBy>
  <dcterms:modified xsi:type="dcterms:W3CDTF">2011-02-01T13:13:45Z</dcterms:modified>
  <cp:revision>4</cp:revision>
  <dc:subject/>
  <dc:title>Daily Activities and Objectives</dc:title>
</cp:coreProperties>
</file>